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265-6EA4-4AF9-9A41-79CD00B2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B165-A176-4C92-84A4-D0D64DEB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6DD2-6519-4EB4-B54C-E21E4D2D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C426-E959-4085-9652-DE311ADE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D256-389B-446B-8C5F-468810E4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0DC0-A381-4237-8CB0-2636CA94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C6E4-A03B-46ED-B317-26A10CB2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9F2F-E9AD-4449-8B57-C9A6AAB0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6FE2-9025-483D-80E4-B1920C1F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3D2F-AEF4-44A7-8684-DBD120A5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4C1D-A5BD-4E37-A404-1A8AB19C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1963-D22E-4210-8C9F-FD80A60E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6D1E-9B6F-477F-B167-80BF756B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154B-87DC-421A-8B02-B77C778A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777D-686D-41FD-B70C-06DFD1C9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2704-1D65-468C-9FF7-B0446343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D9FC-078B-4981-954F-67CE8E31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007F-7839-4B97-B1FB-42DF33E2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0C6B-FB55-49EA-A704-783CBE58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3872-1222-495E-BB6E-E601C6C1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E3C-2CCA-4922-8EAD-2BCC3EAC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A24E-0612-4CE4-9EB5-DADBC02F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5F79-E4F6-410B-B7A8-252FE6AB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F86F-D418-472E-B409-E6E8BCF8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C096-115B-4BB8-9499-A0D2A50E0B5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22E3-60BD-4D3E-8735-4A8BC5326B8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ense.pp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83664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When we got to the theatre, they </a:t>
            </a:r>
            <a:r>
              <a:rPr b="0" lang="en-US" sz="4800" spc="-1" strike="noStrike">
                <a:solidFill>
                  <a:srgbClr val="da0000"/>
                </a:solidFill>
                <a:latin typeface="Arial Black"/>
              </a:rPr>
              <a:t>had sold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all the ticket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1240" y="3213000"/>
            <a:ext cx="7196400" cy="2702520"/>
            <a:chOff x="471240" y="3213000"/>
            <a:chExt cx="7196400" cy="2702520"/>
          </a:xfrm>
        </p:grpSpPr>
        <p:sp>
          <p:nvSpPr>
            <p:cNvPr id="83" name=""/>
            <p:cNvSpPr/>
            <p:nvPr/>
          </p:nvSpPr>
          <p:spPr>
            <a:xfrm>
              <a:off x="539640" y="4508280"/>
              <a:ext cx="7128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32000" y="4076640"/>
              <a:ext cx="0" cy="43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4076640"/>
              <a:ext cx="0" cy="43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32720" y="4147920"/>
              <a:ext cx="0" cy="360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1240" y="4724280"/>
              <a:ext cx="205812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had sol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48000" y="4724280"/>
              <a:ext cx="2448000" cy="1191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got to the theatre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02520" y="4653000"/>
              <a:ext cx="114552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Now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10960" y="3213000"/>
              <a:ext cx="155232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过去的过去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00000" y="765000"/>
            <a:ext cx="76536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8.When I got to the cinema, the film____ for five minut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ad began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as on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s begun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d been on sho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5229360"/>
            <a:ext cx="1008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620640"/>
            <a:ext cx="8048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9.Class ___ by the time I ____ there, so I took a seat in the back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has begun, get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had begun, g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. began, got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. begins, g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3645000"/>
            <a:ext cx="1008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179280"/>
            <a:ext cx="8137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10.Helen ___ her key in the office so she had to wait until her husband___ hom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as left, comes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left, had co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d left, came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d left, would co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458136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765000"/>
            <a:ext cx="8335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1.The pen which I ___ I  ____ is on my desk, right under my nos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ink, lost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ought, had lo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. think, had lost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. thought, have lo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371628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5280" y="692280"/>
            <a:ext cx="81932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hey asked me to have a drink with them. I said that it was at least ten years since I ____ a good drin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enjoy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as enjoy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enjoy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been enjoy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3068640"/>
            <a:ext cx="684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0920" y="620640"/>
            <a:ext cx="8408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How long __ each other before they ___ marri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 For about a ye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A. have they known; g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B. did they know; were going to g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do they know; are going to g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had they known; g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5445000"/>
            <a:ext cx="684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55640" y="1341360"/>
            <a:ext cx="8085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hen Jack arrived he learned Mary ___ for almost an hou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g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set of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lef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been aw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5013360"/>
            <a:ext cx="68400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5280" y="981000"/>
            <a:ext cx="87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---Did you tell your brother where she ___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---Yes, but I didn’t tell him she ___ until next wee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A. has gone; wo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B. went; do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. had been; would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D. had gone; would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4797360"/>
            <a:ext cx="68400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836640"/>
            <a:ext cx="826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is wife ___ to catch the first train but she was too la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op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hop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hop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ould hop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2637000"/>
            <a:ext cx="68436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4653000"/>
            <a:ext cx="8551800" cy="11912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had hoped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意为“原希望”，常用于这一结构的动词有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think, want, plan, suppose, intend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2"/>
          </p:cNvPr>
          <p:cNvSpPr/>
          <p:nvPr/>
        </p:nvSpPr>
        <p:spPr>
          <a:xfrm>
            <a:off x="7885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10800"/>
                </a:moveTo>
                <a:lnTo>
                  <a:pt x="23193" y="3794"/>
                </a:lnTo>
                <a:lnTo>
                  <a:pt x="2319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1916280"/>
            <a:ext cx="783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过去完成时是一种与</a:t>
            </a:r>
            <a:r>
              <a:rPr b="1" lang="zh-CN" sz="4800" spc="-1" strike="noStrike">
                <a:solidFill>
                  <a:srgbClr val="ff3300"/>
                </a:solidFill>
                <a:latin typeface="Arial Black"/>
              </a:rPr>
              <a:t>过去时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相比较而存在的时态，用以表示“过去的过去”的动作或状态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1773360"/>
            <a:ext cx="8480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1.When we _____(arrive) at the theatre, the play ____(already start)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4365720"/>
            <a:ext cx="575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arrived;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had already star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95280" y="60480"/>
            <a:ext cx="82645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2.The police found that the house ___and a lot of things___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A. has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been 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B. had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been 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has been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had been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44500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981000"/>
            <a:ext cx="79405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3.Tom didn't go to hear the singer because he___ him.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eard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ould hea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s heard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d he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544500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5280" y="179280"/>
            <a:ext cx="83534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4.---Why didn't you come to the part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-----I___ to come, but one of my friends came to see me just the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. wanted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B. was want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had wan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had been wan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30064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00000" y="333360"/>
            <a:ext cx="7201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5.Sorry,I've eaten up the food. I___ that     he  wouldn't be back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hink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was thin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had though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though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472428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1840" y="1125360"/>
            <a:ext cx="8085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6.When we got to his home, we learned h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___ for almost an hou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ent   B. had gone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d been awa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s go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07664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476280"/>
            <a:ext cx="876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7.---Did you meet John here at the universit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----No, we___ when I started colleg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have already met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lready m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would meet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had already m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589720"/>
            <a:ext cx="1008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31:57Z</dcterms:created>
  <dc:creator>Legend User</dc:creator>
  <dc:description/>
  <dc:language>en-US</dc:language>
  <cp:lastModifiedBy>Legend User</cp:lastModifiedBy>
  <dcterms:modified xsi:type="dcterms:W3CDTF">2002-12-10T13:06:31Z</dcterms:modified>
  <cp:revision>18</cp:revision>
  <dc:subject/>
  <dc:title>幻灯片 1</dc:title>
</cp:coreProperties>
</file>